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png" ContentType="image/png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2.jpeg" ContentType="image/jpeg"/>
  <Override PartName="/ppt/media/image1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6E32-A6CB-4B22-A463-94825F436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C500-C6E3-4CF5-B8B5-0A68AD5C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B87E-ED3F-4271-B684-5D75595C8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9DD1-F37F-41FA-AF27-F71938330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817C-5464-4FB8-B25E-84EF949BF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0E05-E34F-4B81-80EC-0313423D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C018-462A-44F9-9BE1-C8DE4D2C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C666-FCE6-44CA-B6AF-A90E9BE8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CDC2-5B46-4172-ABC0-4681E929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35CD-067C-446D-A8C1-EDC35A9C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D449-C17D-43B2-833B-34B55225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1317-A600-416B-B153-54292F87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8A23-CF21-45F9-83F6-F9A3E636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CBDB-ADD7-46F9-9AAB-A1DC8DF1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CB60-D01D-43FC-9757-F02C656A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6D3C-D05C-4532-B4E8-4D9A2A711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6478-9EAF-495A-804B-7FBDDED6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1033-3809-44AF-AEFE-3503B6BF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0019-700A-4329-9406-40885053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5D63-6C50-4A02-8F10-E2024290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AB7A-F966-42AE-BE18-81E9DFDA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F8FA-6920-43C9-A7F7-7A0C1201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660F-332D-4C51-BF93-15E33414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537B-B3A9-49E0-AE84-7852759E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6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2069c"/>
                </a:gs>
                <a:gs pos="50000">
                  <a:srgbClr val="ffcc00"/>
                </a:gs>
                <a:gs pos="100000">
                  <a:srgbClr val="0206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02069c"/>
                </a:gs>
                <a:gs pos="100000">
                  <a:srgbClr val="ffcc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2069c"/>
                </a:gs>
                <a:gs pos="50000">
                  <a:srgbClr val="ffcc00"/>
                </a:gs>
                <a:gs pos="100000">
                  <a:srgbClr val="0206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2069c"/>
                </a:gs>
                <a:gs pos="50000">
                  <a:srgbClr val="ffcc00"/>
                </a:gs>
                <a:gs pos="100000">
                  <a:srgbClr val="0206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2069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206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2069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c50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5C4F-E4F7-4265-9B93-C58075B28A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6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2069c"/>
                </a:gs>
                <a:gs pos="50000">
                  <a:srgbClr val="ffcc00"/>
                </a:gs>
                <a:gs pos="100000">
                  <a:srgbClr val="0206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02069c"/>
                </a:gs>
                <a:gs pos="100000">
                  <a:srgbClr val="ffcc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2069c"/>
                </a:gs>
                <a:gs pos="50000">
                  <a:srgbClr val="ffcc00"/>
                </a:gs>
                <a:gs pos="100000">
                  <a:srgbClr val="0206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2069c"/>
                </a:gs>
                <a:gs pos="50000">
                  <a:srgbClr val="ffcc00"/>
                </a:gs>
                <a:gs pos="100000">
                  <a:srgbClr val="0206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2069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206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2069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c50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D8CB-101A-4513-A185-E50FE2EE0A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6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C:\Documents and Settings\hongcui\Local Settings\Temporary Internet Files\Content.IE5\EK1L40OD\MC900441170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771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cc"/>
                </a:solidFill>
                <a:latin typeface="Berlin Sans FB Demi"/>
              </a:rPr>
              <a:t>Planets</a:t>
            </a:r>
            <a:endParaRPr b="0" lang="en-US" sz="9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rlin Sans FB Demi"/>
              </a:rPr>
              <a:t>The new and ol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6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erlin Sans FB Demi"/>
              </a:rPr>
              <a:t>Ice/Fire Plane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Ice Planets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rbel"/>
              </a:rPr>
              <a:t>-200 degrees Celsius or u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That makes the following ice plane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lu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akema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Haum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Uran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eptu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rbel"/>
              </a:rPr>
              <a:t>Fire Planets 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Above 300 degrees Celsi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rbel"/>
              </a:rPr>
              <a:t>That makes the following fire plane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Mercu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Ven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6" descr="fire-planet"/>
          <p:cNvPicPr/>
          <p:nvPr/>
        </p:nvPicPr>
        <p:blipFill>
          <a:blip r:embed="rId1"/>
          <a:stretch/>
        </p:blipFill>
        <p:spPr>
          <a:xfrm>
            <a:off x="6553080" y="4114800"/>
            <a:ext cx="1924200" cy="1924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ice%20planet%20blue%20cracked"/>
          <p:cNvPicPr/>
          <p:nvPr/>
        </p:nvPicPr>
        <p:blipFill>
          <a:blip r:embed="rId2"/>
          <a:stretch/>
        </p:blipFill>
        <p:spPr>
          <a:xfrm>
            <a:off x="3657600" y="3505320"/>
            <a:ext cx="187164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6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Berlin Sans FB Demi"/>
              </a:rPr>
              <a:t>Fast Planet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Fast Planets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rbel"/>
              </a:rPr>
              <a:t>A shorter rotational period then one earth year (or under 300 day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That makes the following fast plane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erc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Ven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5" descr="mercury2"/>
          <p:cNvPicPr/>
          <p:nvPr/>
        </p:nvPicPr>
        <p:blipFill>
          <a:blip r:embed="rId1"/>
          <a:stretch/>
        </p:blipFill>
        <p:spPr>
          <a:xfrm>
            <a:off x="5699160" y="3029040"/>
            <a:ext cx="3054240" cy="3054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"/>
          <p:cNvPicPr/>
          <p:nvPr/>
        </p:nvPicPr>
        <p:blipFill>
          <a:blip r:embed="rId2"/>
          <a:stretch/>
        </p:blipFill>
        <p:spPr>
          <a:xfrm rot="20778600">
            <a:off x="988560" y="3161880"/>
            <a:ext cx="2382840" cy="25639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7"/>
          <p:cNvSpPr/>
          <p:nvPr/>
        </p:nvSpPr>
        <p:spPr>
          <a:xfrm rot="772200">
            <a:off x="7220880" y="302724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Mercu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Box 9"/>
          <p:cNvSpPr/>
          <p:nvPr/>
        </p:nvSpPr>
        <p:spPr>
          <a:xfrm rot="20803200">
            <a:off x="2452320" y="5457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6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C:\Documents and Settings\hongcui\Local Settings\Temporary Internet Files\Content.IE5\YGXE58T4\MC900438203[1].wmf"/>
          <p:cNvPicPr/>
          <p:nvPr/>
        </p:nvPicPr>
        <p:blipFill>
          <a:blip r:embed="rId1"/>
          <a:stretch/>
        </p:blipFill>
        <p:spPr>
          <a:xfrm>
            <a:off x="533520" y="0"/>
            <a:ext cx="7569000" cy="61246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6199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0" lang="en-US" sz="8000" spc="-1" strike="noStrike">
                <a:solidFill>
                  <a:srgbClr val="ffffcc"/>
                </a:solidFill>
                <a:latin typeface="Berlin Sans FB Demi"/>
              </a:rPr>
              <a:t>~Thanks for Watching~</a:t>
            </a:r>
            <a:endParaRPr b="0" lang="en-US" sz="8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1" name="Picture 4" descr="C:\Documents and Settings\hongcui\Local Settings\Temporary Internet Files\Content.IE5\A7T6LC6K\MC900432592[1].png"/>
          <p:cNvPicPr/>
          <p:nvPr/>
        </p:nvPicPr>
        <p:blipFill>
          <a:blip r:embed="rId2"/>
          <a:stretch/>
        </p:blipFill>
        <p:spPr>
          <a:xfrm rot="1295400">
            <a:off x="5867280" y="3808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6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Object 7"/>
          <p:cNvGraphicFramePr/>
          <p:nvPr/>
        </p:nvGraphicFramePr>
        <p:xfrm>
          <a:off x="0" y="-147600"/>
          <a:ext cx="9144000" cy="700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47600"/>
                    <a:ext cx="9144000" cy="70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Box 4"/>
          <p:cNvSpPr/>
          <p:nvPr/>
        </p:nvSpPr>
        <p:spPr>
          <a:xfrm>
            <a:off x="3505320" y="83808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 Demi"/>
              </a:rPr>
              <a:t>Planetary Mean Den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6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4"/>
          <p:cNvGraphicFramePr/>
          <p:nvPr/>
        </p:nvGraphicFramePr>
        <p:xfrm>
          <a:off x="0" y="-147600"/>
          <a:ext cx="9144000" cy="700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47600"/>
                    <a:ext cx="9144000" cy="70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TextBox 4"/>
          <p:cNvSpPr/>
          <p:nvPr/>
        </p:nvSpPr>
        <p:spPr>
          <a:xfrm>
            <a:off x="4952880" y="15238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 Demi"/>
              </a:rPr>
              <a:t>Moons and Plan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6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4"/>
          <p:cNvGraphicFramePr/>
          <p:nvPr/>
        </p:nvGraphicFramePr>
        <p:xfrm>
          <a:off x="0" y="-147600"/>
          <a:ext cx="9144000" cy="700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47600"/>
                    <a:ext cx="9144000" cy="70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Box 4"/>
          <p:cNvSpPr/>
          <p:nvPr/>
        </p:nvSpPr>
        <p:spPr>
          <a:xfrm>
            <a:off x="1295280" y="12193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 Demi"/>
              </a:rPr>
              <a:t>Orbital Period of Plan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6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TextBox 4"/>
          <p:cNvSpPr/>
          <p:nvPr/>
        </p:nvSpPr>
        <p:spPr>
          <a:xfrm>
            <a:off x="1752480" y="9907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 Demi"/>
              </a:rPr>
              <a:t>Rotational Peri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6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Object 4"/>
          <p:cNvGraphicFramePr/>
          <p:nvPr/>
        </p:nvGraphicFramePr>
        <p:xfrm>
          <a:off x="0" y="-147600"/>
          <a:ext cx="9144000" cy="700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47600"/>
                    <a:ext cx="9144000" cy="70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Box 4"/>
          <p:cNvSpPr/>
          <p:nvPr/>
        </p:nvSpPr>
        <p:spPr>
          <a:xfrm>
            <a:off x="1981080" y="83808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 Demi"/>
              </a:rPr>
              <a:t>Distance From S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6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4"/>
          <p:cNvGraphicFramePr/>
          <p:nvPr/>
        </p:nvGraphicFramePr>
        <p:xfrm>
          <a:off x="0" y="-147600"/>
          <a:ext cx="9144000" cy="700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47600"/>
                    <a:ext cx="9144000" cy="70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Box 4"/>
          <p:cNvSpPr/>
          <p:nvPr/>
        </p:nvSpPr>
        <p:spPr>
          <a:xfrm>
            <a:off x="4191120" y="7621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 Demi"/>
              </a:rPr>
              <a:t>Diameter Of Plan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6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Object 4"/>
          <p:cNvGraphicFramePr/>
          <p:nvPr/>
        </p:nvGraphicFramePr>
        <p:xfrm>
          <a:off x="0" y="0"/>
          <a:ext cx="9144000" cy="700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0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Box 5"/>
          <p:cNvSpPr/>
          <p:nvPr/>
        </p:nvSpPr>
        <p:spPr>
          <a:xfrm>
            <a:off x="1752480" y="83808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 Demi"/>
              </a:rPr>
              <a:t>Density Of Plan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6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erlin Sans FB Demi"/>
              </a:rPr>
              <a:t>Plane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rbel"/>
              </a:rPr>
              <a:t>Planets 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A spherical sha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Gra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Orbital period of at least one earth year (or at least 300 day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Below 300 degrees Celsius, but above -200 degrees Celsius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rbel"/>
              </a:rPr>
              <a:t>That makes the following plane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Ear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M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Jupi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a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e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5" descr="earth"/>
          <p:cNvPicPr/>
          <p:nvPr/>
        </p:nvPicPr>
        <p:blipFill>
          <a:blip r:embed="rId1"/>
          <a:stretch/>
        </p:blipFill>
        <p:spPr>
          <a:xfrm rot="2850600">
            <a:off x="6162840" y="4238640"/>
            <a:ext cx="2171520" cy="2171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 rot="20931600">
            <a:off x="1447560" y="4571640"/>
            <a:ext cx="1962000" cy="17524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7"/>
          <p:cNvSpPr/>
          <p:nvPr/>
        </p:nvSpPr>
        <p:spPr>
          <a:xfrm>
            <a:off x="6934320" y="38862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Ear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2057400" y="44197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Jupi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22:09:52Z</dcterms:created>
  <dc:creator>ASD</dc:creator>
  <dc:description/>
  <dc:language>en-US</dc:language>
  <cp:lastModifiedBy>labwil2</cp:lastModifiedBy>
  <dcterms:modified xsi:type="dcterms:W3CDTF">2011-02-16T21:52:07Z</dcterms:modified>
  <cp:revision>5</cp:revision>
  <dc:subject/>
  <dc:title>Planets</dc:title>
</cp:coreProperties>
</file>